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414-DE28-4ABF-8342-88A4ABAC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73B-C3B2-4315-9E49-FE367582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3C7-A76B-40D0-BB85-DFA7EAED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CC8-9353-41CA-A479-3C03B6F8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EF1-AC90-4F98-863D-95C82BDD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49A-A7BA-4EDF-B243-94ED87F9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688-4D88-4EED-AAAE-6A776531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5C1-AE91-4550-AE20-3D8EC718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F6F-6FDB-409E-BCF8-9BAB09B4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DAE-CED4-4058-84FE-06D525BF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E16-6404-4A4F-9702-7A599CBE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EBB6-EE1F-47B6-BF53-80F71AA2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C98A-ABD4-425E-B282-48682A367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0:33:02Z</dcterms:created>
  <dc:creator>Howard Burrows</dc:creator>
  <dc:description/>
  <dc:language>en-US</dc:language>
  <cp:lastModifiedBy>Howard Burrows</cp:lastModifiedBy>
  <dcterms:modified xsi:type="dcterms:W3CDTF">2006-03-14T20:36:24Z</dcterms:modified>
  <cp:revision>2</cp:revision>
  <dc:subject/>
  <dc:title>Slide 1</dc:title>
</cp:coreProperties>
</file>